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383-1805-45D7-B7CC-C99B44E1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9CA-C4BD-45D0-A218-F6463713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037-A1E8-4009-B6C9-4BAE2D08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09E-BDFD-43E5-A1E2-83C52B4C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A22-1489-4573-A727-0829DCCC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315-7A46-48A2-AE6B-CF200FF4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24B-D1E1-4316-B76A-98229A5E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BB1-47B9-413D-99D6-2D01AA7A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847-8F3B-4A5C-BDAB-3C48D8E1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692-BC79-4093-8722-CF7AC3C0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89E-DCFB-430A-AA96-5F325D7A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E84-ED77-4804-994D-7089532F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DD03-C731-48AC-B92E-1330A0FC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:\Program Files\Inxight\Table Lens for Web\bin\Eureka.exe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C:\thbb\Documents\ESieve\demo\bin\testsieve.bat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martmoney.com/marketmap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2880" y="515880"/>
            <a:ext cx="6919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perception to amplify 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76520" y="2971800"/>
            <a:ext cx="1076400" cy="1922760"/>
            <a:chOff x="1676520" y="2971800"/>
            <a:chExt cx="1076400" cy="1922760"/>
          </a:xfrm>
        </p:grpSpPr>
        <p:sp>
          <p:nvSpPr>
            <p:cNvPr id="44" name=""/>
            <p:cNvSpPr/>
            <p:nvPr/>
          </p:nvSpPr>
          <p:spPr>
            <a:xfrm>
              <a:off x="1676520" y="3768840"/>
              <a:ext cx="99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95400" y="2971800"/>
              <a:ext cx="857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4454640"/>
              <a:ext cx="99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3733920" y="2666880"/>
          <a:ext cx="51051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666880"/>
                    <a:ext cx="5105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6280" y="523440"/>
            <a:ext cx="68389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Design/Data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xternal representations to amplify 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bstract external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191120" cy="325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352680"/>
            <a:ext cx="64008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705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Visu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interactive external representations to amplify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Visualization = phys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Visualization = abstract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 server logs, databas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&gt; No intrinsic visu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0481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3054240"/>
            <a:ext cx="493380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years of Academic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ques Bertin (cartograph) invented the domain in the 6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Sh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derman popularized it (~90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by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905120"/>
            <a:ext cx="563868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: Table 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ke a spreadsheet, replace figures with b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+ add interactive manipulation of rows and colum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inxight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4876560" cy="3672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field Display (plo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plots with interactive filtering and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514600"/>
            <a:ext cx="47242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286000"/>
            <a:ext cx="5943600" cy="4216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6840" y="533520"/>
            <a:ext cx="60991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ierarchical and cluster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/macro reading, size + color enco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smartmoney.com/marke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7560" y="401760"/>
            <a:ext cx="6394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ma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000 hits in 6 months, interactive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715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21:36:54Z</dcterms:created>
  <dc:creator>Thomas Baudel</dc:creator>
  <dc:description/>
  <dc:language>en-US</dc:language>
  <cp:lastModifiedBy>Thomas Baudel</cp:lastModifiedBy>
  <dcterms:modified xsi:type="dcterms:W3CDTF">2005-01-29T14:03:25Z</dcterms:modified>
  <cp:revision>95</cp:revision>
  <dc:subject/>
  <dc:title>Business Graphic Objects  de Ilog Views</dc:title>
</cp:coreProperties>
</file>