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D61-663F-4104-9E3C-D6C12B01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1B0-6E50-4181-A925-5C06CFDF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102-5B15-4136-A0AE-C45B83F0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9E9-7E7E-46E8-B339-762662DD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516-EDC4-4A42-A98A-B094C4D4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5BA-C080-40BD-9887-4BB16E60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896-0038-4E57-816B-1A57FBE0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5B5-3C60-469E-9BB7-679B4EC0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DDA-3B00-4261-AEB6-E405E8E6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A1E-DCC2-42A5-B8FD-DAF9A33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73D-C068-48CE-A8F7-FC94D971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D89-3469-416B-9405-0A3BB4FB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A133-741C-4DA5-AF59-CB6BC4A7A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:\Program Files\Inxight\Table Lens for Web\bin\Eureka.exe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C:\thbb\Documents\ESieve\demo\bin\testsieve.bat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martmoney.com/marketmap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2880" y="515880"/>
            <a:ext cx="6919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perception to amplify 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76520" y="2971800"/>
            <a:ext cx="1076400" cy="1922760"/>
            <a:chOff x="1676520" y="2971800"/>
            <a:chExt cx="1076400" cy="1922760"/>
          </a:xfrm>
        </p:grpSpPr>
        <p:sp>
          <p:nvSpPr>
            <p:cNvPr id="44" name=""/>
            <p:cNvSpPr/>
            <p:nvPr/>
          </p:nvSpPr>
          <p:spPr>
            <a:xfrm>
              <a:off x="1676520" y="3768840"/>
              <a:ext cx="99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95400" y="2971800"/>
              <a:ext cx="85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4454640"/>
              <a:ext cx="99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3733920" y="2666880"/>
          <a:ext cx="51051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666880"/>
                    <a:ext cx="5105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6280" y="523440"/>
            <a:ext cx="6838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Design/Data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xternal representations to amplify 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bstract external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191120" cy="325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4008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705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interactive external representations to amplify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Visualization = phys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Visualization = abstract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 server logs, databa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&gt; No intrinsic vis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0481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3054240"/>
            <a:ext cx="493380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years of Academic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ques Bertin (cartograph) invented the domain in the 6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Sh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derman popularized it (~90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by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905120"/>
            <a:ext cx="563868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: Table 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ke a spreadsheet, replace figures with b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+ add interactive manipulation of rows and colum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inxight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876560" cy="3672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field Display (plo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plots with interactive filtering and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514600"/>
            <a:ext cx="47242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286000"/>
            <a:ext cx="5943600" cy="4216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6840" y="533520"/>
            <a:ext cx="60991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ierarchical and cluster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/macro reading, size + color enco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smartmoney.com/marke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7560" y="401760"/>
            <a:ext cx="6394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ma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000 hits in 6 months, interactive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715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21:36:54Z</dcterms:created>
  <dc:creator>Thomas Baudel</dc:creator>
  <dc:description/>
  <dc:language>en-US</dc:language>
  <cp:lastModifiedBy>Thomas Baudel</cp:lastModifiedBy>
  <dcterms:modified xsi:type="dcterms:W3CDTF">2005-01-29T14:03:25Z</dcterms:modified>
  <cp:revision>95</cp:revision>
  <dc:subject/>
  <dc:title>Business Graphic Objects  de Ilog Views</dc:title>
</cp:coreProperties>
</file>