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460-5283-410F-90F4-EE5EDE3E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919-148F-40AF-B536-F59AB3B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48E-AD49-4C34-A839-F9FB972D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401-6E19-463A-A2C8-7A1E2D1E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5CF-AE86-4DB3-B365-37D2C8FD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7A8-E1EC-4E69-9F6E-73B7D23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F83-79BE-4442-A609-B6DEAC3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DCF-AB49-461B-8AA4-6EA4801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2BA-F07C-4AAF-BFC8-E96779F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3F3-DFCF-4AF2-A9E5-E3A445F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DE1-1616-4E56-B2A4-6F3B3AA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F7A-0DCB-4BFC-8BFE-C72AE0B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5DB-7D29-4EAC-9772-E726AC6B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ilog\Views401\studio\msvc6\ivfstudio.ex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79000"/>
            <a:ext cx="860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phology of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dvances in experimental psychology to provide morphologically correct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irectional m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1295280" y="4495680"/>
            <a:ext cx="1524240" cy="1676520"/>
          </a:xfrm>
          <a:prstGeom prst="rect">
            <a:avLst/>
          </a:prstGeom>
          <a:solidFill>
            <a:srgbClr val="fbdf53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8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4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3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5181480"/>
            <a:ext cx="1447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0" cy="1218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71080"/>
            <a:ext cx="8523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phology of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anu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reative, specializ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ur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rtable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4: IBM ViaVoice &amp; Dragon Dic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 on cell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seem to hold its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1:47Z</dcterms:modified>
  <cp:revision>95</cp:revision>
  <dc:subject/>
  <dc:title>Business Graphic Objects  de Ilog Views</dc:title>
</cp:coreProperties>
</file>