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5BD-F4E6-4824-8A54-6119B943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10E-4E65-4881-9FC8-C2C57C7C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F36-5BC1-41F0-AFCA-3CF2B0E7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82D-00EB-4DAF-8032-1A300CE7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11C-39C7-46D6-B213-33BC9417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096-4D07-49A4-9E9B-ABF3E4C3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397-B787-44F8-BDB1-8C43EB96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102-3168-4D78-94F5-44214AE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ECE-073E-4C50-B5E8-82612F6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1F2-C2E9-4D20-873D-7FD9478A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E7A-0A80-4E9C-AA1A-4C09C446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001-7C6F-4A8C-94C1-FAB1F11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49C0-CE65-4994-894E-7D6D6E065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ilog\Views401\studio\msvc6\ivfstudio.exe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79000"/>
            <a:ext cx="8604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phology of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dvances in experimental psychology to provide morphologically correct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irectional m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1295280" y="4495680"/>
            <a:ext cx="1524240" cy="1676520"/>
          </a:xfrm>
          <a:prstGeom prst="rect">
            <a:avLst/>
          </a:prstGeom>
          <a:solidFill>
            <a:srgbClr val="fbdf53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8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4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3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5181480"/>
            <a:ext cx="1447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0" cy="12189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71080"/>
            <a:ext cx="8523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phology of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manu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reative, specializ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ur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rtable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1994: IBM ViaVoice &amp; Dragon Dic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 on cell ph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seem to hold its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1:47Z</dcterms:modified>
  <cp:revision>95</cp:revision>
  <dc:subject/>
  <dc:title>Business Graphic Objects  de Ilog Views</dc:title>
</cp:coreProperties>
</file>