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13B-203A-42DB-97FA-65E46C6F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1A6-3C9A-4356-B2FF-0B7E6798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EAE-C56A-46B3-8E34-80CF3E98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5AE-876C-4C76-B8A2-AAE1F6D1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AD5-51F1-437C-92F6-72074C4F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098-DCC2-407B-AF98-35B01956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98B-261D-4C73-8162-7D9ACED9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F5F-79D0-4D9A-8D94-20E4CBA0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D0FE-C9D0-4101-964C-46930031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F85D-0231-4CB2-9DE7-D0DEF071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FC4-6E55-4E23-9979-EFF176FA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A3E-3AE8-4873-97F7-A600E7F7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85C9-93AE-4918-AD98-9BC16DFEE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:\thbb\Documents\Views\standalone.exe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C:\thbb\Documents\Views\elecnet.exe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523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ve GUI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54080" y="2355480"/>
            <a:ext cx="403236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using standards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. ad hoc graphics to better fit the affordances of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08040" y="2513160"/>
          <a:ext cx="3813120" cy="15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2513160"/>
                    <a:ext cx="381312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" name=""/>
          <p:cNvGrpSpPr/>
          <p:nvPr/>
        </p:nvGrpSpPr>
        <p:grpSpPr>
          <a:xfrm>
            <a:off x="533520" y="4267080"/>
            <a:ext cx="1678680" cy="1757520"/>
            <a:chOff x="533520" y="4267080"/>
            <a:chExt cx="1678680" cy="1757520"/>
          </a:xfrm>
        </p:grpSpPr>
        <p:sp>
          <p:nvSpPr>
            <p:cNvPr id="46" name=""/>
            <p:cNvSpPr/>
            <p:nvPr/>
          </p:nvSpPr>
          <p:spPr>
            <a:xfrm>
              <a:off x="641520" y="4503240"/>
              <a:ext cx="1329480" cy="141876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41520" y="5237280"/>
              <a:ext cx="13294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21560" y="4503240"/>
              <a:ext cx="0" cy="1418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58560" y="5895720"/>
              <a:ext cx="120600" cy="128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5175360"/>
              <a:ext cx="120600" cy="128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7819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1074240" y="5248080"/>
              <a:ext cx="503640" cy="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16520" y="4949640"/>
              <a:ext cx="0" cy="6447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95560" y="5121720"/>
              <a:ext cx="241560" cy="257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04240" y="4618800"/>
              <a:ext cx="120600" cy="128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58560" y="4267080"/>
              <a:ext cx="120600" cy="257760"/>
            </a:xfrm>
            <a:prstGeom prst="triangle">
              <a:avLst>
                <a:gd name="adj" fmla="val 60417"/>
              </a:avLst>
            </a:prstGeom>
            <a:solidFill>
              <a:srgbClr val="0000ff"/>
            </a:solidFill>
            <a:ln w="0">
              <a:noFill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2026800" y="5105520"/>
              <a:ext cx="128880" cy="241560"/>
            </a:xfrm>
            <a:prstGeom prst="triangle">
              <a:avLst>
                <a:gd name="adj" fmla="val 60417"/>
              </a:avLst>
            </a:prstGeom>
            <a:solidFill>
              <a:srgbClr val="ff6600"/>
            </a:solidFill>
            <a:ln w="0">
              <a:noFill/>
            </a:ln>
            <a:effectLst>
              <a:outerShdw dist="17819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706840" y="4267080"/>
            <a:ext cx="1717560" cy="1762200"/>
            <a:chOff x="2706840" y="4267080"/>
            <a:chExt cx="1717560" cy="1762200"/>
          </a:xfrm>
        </p:grpSpPr>
        <p:grpSp>
          <p:nvGrpSpPr>
            <p:cNvPr id="58" name=""/>
            <p:cNvGrpSpPr/>
            <p:nvPr/>
          </p:nvGrpSpPr>
          <p:grpSpPr>
            <a:xfrm>
              <a:off x="2706840" y="4483440"/>
              <a:ext cx="1620360" cy="1458000"/>
              <a:chOff x="2706840" y="4483440"/>
              <a:chExt cx="1620360" cy="1458000"/>
            </a:xfrm>
          </p:grpSpPr>
          <p:sp>
            <p:nvSpPr>
              <p:cNvPr id="59" name=""/>
              <p:cNvSpPr/>
              <p:nvPr/>
            </p:nvSpPr>
            <p:spPr>
              <a:xfrm rot="1627800">
                <a:off x="2851560" y="4734000"/>
                <a:ext cx="1330920" cy="956160"/>
              </a:xfrm>
              <a:prstGeom prst="ellipse">
                <a:avLst/>
              </a:prstGeom>
              <a:noFill/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917440" y="4923360"/>
                <a:ext cx="1184400" cy="60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3312360" y="4793760"/>
                <a:ext cx="435960" cy="8510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2743200" y="5175000"/>
              <a:ext cx="120960" cy="128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7819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3264840" y="5244840"/>
              <a:ext cx="504000" cy="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05960" y="5121000"/>
              <a:ext cx="241920" cy="257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15360" y="4618800"/>
              <a:ext cx="120960" cy="128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68960" y="4267080"/>
              <a:ext cx="120960" cy="257760"/>
            </a:xfrm>
            <a:prstGeom prst="triangle">
              <a:avLst>
                <a:gd name="adj" fmla="val 60417"/>
              </a:avLst>
            </a:prstGeom>
            <a:solidFill>
              <a:srgbClr val="0000ff"/>
            </a:solidFill>
            <a:ln w="0">
              <a:noFill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5400000">
              <a:off x="4239000" y="5104800"/>
              <a:ext cx="128880" cy="241920"/>
            </a:xfrm>
            <a:prstGeom prst="triangle">
              <a:avLst>
                <a:gd name="adj" fmla="val 60417"/>
              </a:avLst>
            </a:prstGeom>
            <a:solidFill>
              <a:srgbClr val="ff6600"/>
            </a:solidFill>
            <a:ln w="0">
              <a:noFill/>
            </a:ln>
            <a:effectLst>
              <a:outerShdw dist="17819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69200" y="5067360"/>
              <a:ext cx="0" cy="3866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81560" y="5900400"/>
              <a:ext cx="120960" cy="128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66600" y="338040"/>
            <a:ext cx="6078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GOs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aphical Interface to define Graphical User interfa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tches the application’s structural desig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Programming Environment for the logical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to build the graphical representation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tches the design pro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s clearly the logical model from the conceptual model and from the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s creation of high quality G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6640" y="285480"/>
            <a:ext cx="6678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 Mani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5408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3760" y="231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the available objects and thei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, incremental, reversibl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availabl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2073240"/>
            <a:ext cx="40388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14080" y="285480"/>
            <a:ext cx="72421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 Business Graphic Objects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49480" y="1600200"/>
            <a:ext cx="38862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visual representation in a graphical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graphic objects and data objects with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plication is defined in a regular programm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2133720" cy="1560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2762280" cy="2686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80880" y="2133720"/>
            <a:ext cx="2667240" cy="2173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209680" y="4267080"/>
            <a:ext cx="2438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ptic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905120"/>
            <a:ext cx="4952880" cy="4033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733920" y="3200400"/>
            <a:ext cx="50292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ized Ed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2666880" cy="1951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43040" y="209880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tion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87520" y="2819520"/>
            <a:ext cx="35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sh Editor (24 attrib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19520" y="3429000"/>
            <a:ext cx="2182680" cy="2971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205596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086600" y="3429000"/>
            <a:ext cx="1808280" cy="296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26320" y="1905120"/>
            <a:ext cx="28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regular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2895480"/>
            <a:ext cx="3809880" cy="3562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8440" y="20988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22860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2590920"/>
            <a:ext cx="3124080" cy="3038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648320" y="5029200"/>
            <a:ext cx="3474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34776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6781680" y="5791320"/>
            <a:ext cx="34776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6629400" y="3657600"/>
            <a:ext cx="347760" cy="45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76920" y="5257800"/>
            <a:ext cx="1371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324480" y="3962520"/>
            <a:ext cx="457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the objects and access them by name in a script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5295960" cy="4000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72200" y="3124080"/>
            <a:ext cx="28098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onships Ex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erm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gauge.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: if val&gt;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ge.color=“ Red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gauge.color=“Blu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: if val&gt;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nk=True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nk=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2971800" cy="2733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699880" y="19461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41960" y="5756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89160" y="54514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li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410080" y="4266720"/>
            <a:ext cx="15264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714640" y="4647960"/>
            <a:ext cx="114300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638680" y="2362320"/>
            <a:ext cx="4572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&amp;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BGO peut être utilisé tel quel (composition) ou instanc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instance ne stocke que ses valeurs publ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prototype correspond à une classe de l’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BGO sont organisés en bibliothè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1943280" cy="4391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58000" y="1981080"/>
            <a:ext cx="189540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6T21:36:54Z</dcterms:created>
  <dc:creator>Thomas Baudel</dc:creator>
  <dc:description/>
  <dc:language>en-US</dc:language>
  <cp:lastModifiedBy>Thomas Baudel</cp:lastModifiedBy>
  <dcterms:modified xsi:type="dcterms:W3CDTF">2005-01-29T14:05:09Z</dcterms:modified>
  <cp:revision>96</cp:revision>
  <dc:subject/>
  <dc:title>Business Graphic Objects  de Ilog Views</dc:title>
</cp:coreProperties>
</file>