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87E-B9D8-436B-9800-9BBC7D77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A6A-A3C6-40DD-8F53-6EBA0A1B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60D-3B70-4CD9-AF39-1674EF30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057-0933-4C69-9295-E2CBB3EE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491-E71A-4167-AE1C-755C795D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DF3-17BC-4C34-A6A2-7FC4FA85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D08-3166-4615-8EFF-3229F18F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22ED-803F-4058-B841-EAADDCD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701-D3A3-4F25-A8B6-8B79E30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566-533C-4DF2-B4E8-24239F5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B1F-D6F8-4602-9577-E4E1BA1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CA4-4AB9-408C-97CF-0F82F676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8E04-5116-4EFB-99D3-FAF3D6BF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3400" y="306000"/>
            <a:ext cx="60944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Process becoming an Industrial proce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a chain of specializ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 + Customization +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solver + Gantt chart + DBMS interface + Rou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 Graphic Objects: standard in the domain of network super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 Business Rules » = Rules engine + domain-customizable editor + java interface to link to domain objects/D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6:40Z</dcterms:modified>
  <cp:revision>95</cp:revision>
  <dc:subject/>
  <dc:title>Business Graphic Objects  de Ilog Views</dc:title>
</cp:coreProperties>
</file>