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41C-6E1B-4010-95D1-3D66E02D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42F-410A-4AEC-AAA4-C4A663E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C77-D640-444D-8261-DF34145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843-41CB-4539-8CD8-4991051A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DA5-CB32-44B7-B64A-67CFC60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00C-A0F6-4BB6-98A0-D1AC2AF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BC8-BB7B-4105-8E0A-2C03FB3D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3F9-EC59-4441-964B-9D6F3E3E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C46-0171-41EE-89D6-8117221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176-0A10-49BC-A546-9B95AA0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596-6DFE-43AB-A729-F0F5E91A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CBC-6620-49D0-BC7C-1C6F142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B9E-DAD3-4AF0-AFFC-9A800A4A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3400" y="306000"/>
            <a:ext cx="60944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Process becoming an Industrial pro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a chain of specializ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 + Customization +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solver + Gantt chart + DBMS interface + Rou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 Graphic Objects: standard in the domain of network 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Business Rules » = Rules engine + domain-customizable editor + java interface to link to domain objects/D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6:40Z</dcterms:modified>
  <cp:revision>95</cp:revision>
  <dc:subject/>
  <dc:title>Business Graphic Objects  de Ilog Views</dc:title>
</cp:coreProperties>
</file>